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3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933-2AC0-43EC-8B24-0DE749EF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196-B165-4729-893E-CEA041E1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5A3-867B-4D18-AC14-DD29FA49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B5F-B5EA-4502-83C7-8A4E90C2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B14-094B-4ACF-9DD2-B556755A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B6D-CC55-44DE-BBBB-B26631E7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F882-CCD1-41E4-87CA-D33C553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29A7-0EDA-43A5-90D7-97DE5EB4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4329-576B-493F-B635-206B657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3FAE-DB85-4336-A296-5971901A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1C80-E7E2-4500-96F7-42A1BA7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561-172F-49C9-A601-5A08109D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6E65-8229-4156-BB5F-2F2C0BC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FCA7-947D-4936-890B-CE960ADB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C1F5-6023-4AED-BC93-E2FC7E30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8316-23A8-408C-9485-F22079F3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F4C4-9B24-4ECB-B7C9-D0C0BF22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9D9-FFB0-46B6-9CA9-C1E30C77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EB7-1528-4FB2-AC30-11F6ACF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21B-FDE7-49D7-B535-4F0B9F65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A6B-CFAF-4D5E-926D-181E8CEA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00C-92F6-4344-BEF1-455458A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4CF-A3C7-4AC5-8404-762D0ADA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E8F-6E83-44F9-936B-978F74D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A5C-70B7-4617-BB73-E29204538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8A20-003A-4070-9EFE-EB40802D1D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P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parts that work together to make a computer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bo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enter information into the computer and for giving comma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029200" y="2554200"/>
          <a:ext cx="388620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554200"/>
                    <a:ext cx="38862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put device operated by rolling its ball across a flat surface.  The mouse is used to control the on-screen pointer by pointing and clicking, double-clicking, or dragging objects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Logitech MX510 Performance Optical Mouse (Blue)"/>
          <p:cNvPicPr/>
          <p:nvPr/>
        </p:nvPicPr>
        <p:blipFill>
          <a:blip r:embed="rId1"/>
          <a:stretch/>
        </p:blipFill>
        <p:spPr>
          <a:xfrm>
            <a:off x="5410080" y="23623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uchp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essure-sensitive and motion sensitive device used in place of a m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220680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5105520"/>
            <a:ext cx="25146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D Rom Dr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rive that plays CDs and reads data that has been stored on the C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57800" y="228276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ct Disk – A type of optical storage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05520" y="2130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oppy Disk Dr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ice that holds a removable floppy disk when in use; read/write heads read and write data to the disket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105520" y="2130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rd D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storage device in the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132600" y="2017800"/>
          <a:ext cx="1834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2600" y="2017800"/>
                    <a:ext cx="1834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0784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Access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 is a computer’s temporary memory, which exists as chips on the motherboard near the CPU.  It stores data or programs while they are being used and requires po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utput device that produces a hard copy on paper.  It gives information to the user in printed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code R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evice that converts a pattern of printed bars into a number that a computer can read.  They are often used by businesses to quickly input price and product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rd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parts of the computer, including processor and memory chips, input/output devices, tapes, disks, modems, cabl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32600" y="2017800"/>
          <a:ext cx="1834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2600" y="2017800"/>
                    <a:ext cx="1834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Soyo / Black / ATX Mid-Tower / 350-Watt Power Supply / 7-Bay / Front USB / Keyboard, Mouse, Speakers / Computer Case"/>
          <p:cNvPicPr/>
          <p:nvPr/>
        </p:nvPicPr>
        <p:blipFill>
          <a:blip r:embed="rId3"/>
          <a:stretch/>
        </p:blipFill>
        <p:spPr>
          <a:xfrm>
            <a:off x="5410080" y="25909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ice that allows pictures to be placed into a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cro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the user to record sounds as input to their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generate or reproduce voice, music, and other s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nd 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s the speakers and microphone to the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where the computer is connected to the phone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 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ircuit board that connects the computer to the rest of the network usually using special c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s that tell the computer what to do.  It provides instructions that the CPU will need to carry o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257800" y="2282760"/>
          <a:ext cx="34290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282760"/>
                    <a:ext cx="3429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k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oftware connects the hardware with the programs you want to r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-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DOS (Disk Operating System) is a command line user interface. MS-DOS 1.0 was released in 1981 for IBM compute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MS-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676520" y="1905120"/>
          <a:ext cx="6248160" cy="47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6248160" cy="47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38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amily of operating systems developed and produced by Microsoft Corp.  It provides a software graphical user interface (GUI) used on IBM and compatible compu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P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ntral Processing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32600" y="2017800"/>
          <a:ext cx="1834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2600" y="2017800"/>
                    <a:ext cx="1834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Intel Pentium4 3.4Ghz / 512k Cache / 800Mhz FSB / Socket 478 / HyperThreading / Processor"/>
          <p:cNvPicPr/>
          <p:nvPr/>
        </p:nvPicPr>
        <p:blipFill>
          <a:blip r:embed="rId3"/>
          <a:stretch/>
        </p:blipFill>
        <p:spPr>
          <a:xfrm>
            <a:off x="5029200" y="2209680"/>
            <a:ext cx="365904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Windows (GU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5280" y="1905120"/>
          <a:ext cx="68580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05120"/>
                    <a:ext cx="68580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PU – The chip or chips that interpret and execute program instructions and manage the functions of input, output, and storage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the major components of the computer.  It helps protect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32600" y="2017800"/>
          <a:ext cx="1834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2600" y="2017800"/>
                    <a:ext cx="1834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Just 4 PC - White Full-Tower Case with P4-Ready 485 Watt Power Supply and Front Media Ports - Supports ATX / MATX Mainboards"/>
          <p:cNvPicPr/>
          <p:nvPr/>
        </p:nvPicPr>
        <p:blipFill>
          <a:blip r:embed="rId3"/>
          <a:stretch/>
        </p:blipFill>
        <p:spPr>
          <a:xfrm>
            <a:off x="5410080" y="22096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nt of the Computer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3341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ide the Computer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4104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ni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splay screen to provide “output” to the user.  It is where you view the information your are working 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he computer to the monitor.  It is a circuit board attached to the motherboard that contains the memory and other circuitry necessary to send information to the monitor for display on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9067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0:10:40Z</dcterms:created>
  <dc:creator>Tech Tech</dc:creator>
  <dc:description/>
  <dc:language>en-US</dc:language>
  <cp:lastModifiedBy>Student</cp:lastModifiedBy>
  <dcterms:modified xsi:type="dcterms:W3CDTF">2008-01-25T17:19:49Z</dcterms:modified>
  <cp:revision>51</cp:revision>
  <dc:subject/>
  <dc:title>Computer Parts</dc:title>
</cp:coreProperties>
</file>